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42AB-FC6C-4847-897A-22DE5DEFA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essontutor.com/jm_digest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lbict.co.uk/interactive/science/hear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essontutor.com/jm_respir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BB3-4A6C-499E-9C92-64DDCD83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35D-AFCF-48FD-A4FD-99DBB866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C1C-C362-4927-9864-39FA653A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4A9-AE79-48F9-AB73-0450F77B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196-0217-4243-A38C-1B23FCC8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B07-E6D1-466B-B516-24E39BB4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DCA-4995-4CB8-9BF7-8B08EC8D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8C5-EBEC-4C1E-BBDF-F4A8DF35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C6B-ECBE-4A03-AE21-11D03996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ED8-0B60-402D-9AAD-87D449D3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7BC-25A5-46AC-93DD-C4B45A6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18C-90F5-4866-8FFB-D19168A7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5326-37C5-4C19-96AC-5D2EA8AE8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idshealth.org/kid/htbw/DSquiz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, Circulatory &amp; Respiratory System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kidshealth.org/kid/htbw/R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ftschools.com/quizzes/science/respiratory_system/quiz75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Wor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xhibition came through the Ontario Science Centre. The focus of this exhibit was the heart, but there are other exhibits that features other organs and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Gg-7RxM1xf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5040" y="609480"/>
            <a:ext cx="3732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glot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e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to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duode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System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idshealth.org/kid/htbw/D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ftschools.com/quizzes/science/digestive_system/quiz75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21040" y="609480"/>
            <a:ext cx="510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 va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left at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pulmonary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pulmonary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System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kidshealth.org/kid/htbw/CS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ftschools.com/quizzes/science/circulatory_system/quiz758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2240" y="609480"/>
            <a:ext cx="46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e or nasal pa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l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)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) bronc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(left) bronc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bronch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6:11:23Z</dcterms:created>
  <dc:creator>rubina khan</dc:creator>
  <dc:description/>
  <dc:language>en-US</dc:language>
  <cp:lastModifiedBy>rubina khan</cp:lastModifiedBy>
  <dcterms:modified xsi:type="dcterms:W3CDTF">2012-12-03T17:53:03Z</dcterms:modified>
  <cp:revision>16</cp:revision>
  <dc:subject/>
  <dc:title>Digestive &amp; Circulatory System Review</dc:title>
</cp:coreProperties>
</file>